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4342D-92AA-4AE8-83F3-193025B7E018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5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6A8EA-94C4-43CA-A8D9-89E62CBBD7B0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716877-C32F-4249-BE19-C4B2BFB57CF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F08CB3-96F7-41BF-AB50-31B3972CA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F50F6A-2DFD-43C5-9C23-8D57CE279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8F2466-F694-47E2-9A39-9518F3D700C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4B02A7-F44A-4686-8BE2-9795DE6A5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C53D40-2C4D-49F0-9304-C8A67C22E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78B66F-56E1-47C2-9533-23F275574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85C0E1-FD2A-47F2-8F2B-9E3472966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E7F2E4-49B5-43D2-BF40-E21E4CD0E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640E34-2904-4251-9224-F6AA9A5BB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FBDC96-9F12-40F8-A843-B693A5B0C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00E733-1A59-451D-B0C4-C599C1DDC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99A7F-7005-436C-8520-2E53794E0DC2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4000" y="3068280"/>
            <a:ext cx="6329160" cy="114300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第七节   关节炎的康复护理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6084720" y="5445000"/>
            <a:ext cx="23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e230c"/>
                </a:solidFill>
                <a:latin typeface="Arial"/>
                <a:ea typeface="宋体"/>
              </a:rPr>
              <a:t>   </a:t>
            </a:r>
            <a:r>
              <a:rPr b="1" lang="zh-CN" sz="3200" spc="-1" strike="noStrike">
                <a:solidFill>
                  <a:srgbClr val="fe230c"/>
                </a:solidFill>
                <a:latin typeface="Arial"/>
                <a:ea typeface="宋体"/>
              </a:rPr>
              <a:t>杨晓莲</a:t>
            </a:r>
            <a:r>
              <a:rPr b="1" lang="zh-CN" sz="3600" spc="-1" strike="noStrike">
                <a:solidFill>
                  <a:srgbClr val="fe230c"/>
                </a:solidFill>
                <a:latin typeface="Arial"/>
                <a:ea typeface="宋体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68360" y="1557360"/>
            <a:ext cx="8136000" cy="36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     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缓解期的康复护理：改善关节功能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运动疗法：通过徒手锻炼或利用各种康复器械进 行关节功能训练。利用器械的重力、阻力、牵拉力、杠杆作用或惯性作用以增强肌力，增大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ROM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。①关节体操； ②肌力练习；③有氧运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康复工程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作业疗法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899640" y="1557000"/>
            <a:ext cx="770436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四）康复护理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功能训练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.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减轻体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.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培养正确的生活和工作方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.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做好宣教工作：加强肌肉锻炼、钙制剂的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充、雌激素替代、营养的合理搭配等方面都是预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防和治疗骨性关节炎的有效方法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10920" y="333360"/>
            <a:ext cx="82818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类风湿性关节炎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50560" y="1267920"/>
            <a:ext cx="84978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定义：类风湿关节炎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Rheumatoid arthritis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，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RA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是一种非特异性炎症，是以慢性、对称性、多发性关节炎为特征的一种全身性的结缔组织疾病。本病好发于女性，男女比例为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:4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，好发年龄为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0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5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岁。全身关节均可受累，尤其以掌指关节、近端指间关节和足趾关节为多见，有的以侵犯脊柱关节为主，也可累及肩、肘、腕、膝、踝等关节以及关节外的组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1053720" y="126828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一）主要功能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疼痛、肿胀：为主要症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关节活动受限：后期可引起关节畸形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32" name="Picture 5" descr="3G$ROO6Z[S[PXITGIFM~G70"/>
          <p:cNvPicPr/>
          <p:nvPr/>
        </p:nvPicPr>
        <p:blipFill>
          <a:blip r:embed="rId1"/>
          <a:stretch/>
        </p:blipFill>
        <p:spPr>
          <a:xfrm>
            <a:off x="1263600" y="3284640"/>
            <a:ext cx="3038400" cy="23810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6" descr="AKKH}_}NQC_AXQZ{(A{QC$3"/>
          <p:cNvPicPr/>
          <p:nvPr/>
        </p:nvPicPr>
        <p:blipFill>
          <a:blip r:embed="rId2"/>
          <a:stretch/>
        </p:blipFill>
        <p:spPr>
          <a:xfrm>
            <a:off x="4788000" y="3159000"/>
            <a:ext cx="3095640" cy="24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755280" y="1988640"/>
            <a:ext cx="746748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肌力降低：疼痛、制动可使附近肌肉肌力降低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.ADL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降低：疼痛、活动受限及疾病后期造成的关节畸形等可影响患者的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ADL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179280" y="1341000"/>
            <a:ext cx="8964720" cy="475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二）评定方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 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炎症活动性的评定：晨僵（持续时间）、疲劳感（出现时间）、疼痛程度（缓解疼痛所需药物种类、用量）、肌力（主要检查握力，用血压计式握力计测定）、红细胞沉降率、关节炎（肿胀关节数及程度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.ROM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的评定：用小型半圆规量角器和分规进行测定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.ADL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评定：国际惯用的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ADL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分级分为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级 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心理和社会因素评定：焦虑、抑郁等心理反应，对工作及家庭的影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5.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残疾评定：美国风湿协会提供的标准将其分为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级 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826920" y="1268280"/>
            <a:ext cx="746784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三）治疗护理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急性期（活动期）：以休息、药物、理疗为主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休息与制动：活动期患者需完全卧床休息 ，不超过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采取正确的体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抗风湿药的选用：首选非甾体抗炎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物理疗法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运动疗法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900000" y="1125360"/>
            <a:ext cx="746784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慢性期（稳定期）：关节疼痛减轻，以关节挛缩、僵硬、活动受限为主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注意坐卧姿势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运动疗法和作业治疗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推拿治疗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物理疗法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ADL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的训练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矫形器及辅助用具的应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7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心理护理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755280" y="1412640"/>
            <a:ext cx="748836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四）康复护理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预防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积极控制感染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加强对危险因素的干预，减少发病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指导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家庭参与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家庭关怀和社会支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适当的运动锻炼 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99640" y="259920"/>
            <a:ext cx="79930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强制性脊柱炎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24000" y="1557000"/>
            <a:ext cx="8820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4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定义：强直性脊柱炎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ankylosing spondeelitis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，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AS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为脊柱各关节包括骶髂关节、关节突关节、椎间韧带、肋椎关节及关节周围组织、跟腱、筋膜和肋间肌的慢性、进行性、侵袭性炎症，至晚期，各关节发生骨性融合，韧带骨化，脊柱呈强直状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4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本病与遗传因素有关，有明显家族史，男性多于女性，男∶女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=10:1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，好发于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6</a:t>
            </a:r>
            <a:r>
              <a:rPr b="1" lang="en-US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~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0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岁青壮年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2"/>
          <p:cNvSpPr/>
          <p:nvPr/>
        </p:nvSpPr>
        <p:spPr>
          <a:xfrm>
            <a:off x="858960" y="1212840"/>
            <a:ext cx="3097080" cy="9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Book Antiqua"/>
                <a:ea typeface="宋体"/>
              </a:rPr>
              <a:t>一、骨性关节炎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Rectangle 3"/>
          <p:cNvSpPr/>
          <p:nvPr/>
        </p:nvSpPr>
        <p:spPr>
          <a:xfrm>
            <a:off x="611280" y="2492280"/>
            <a:ext cx="792144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楷体"/>
                <a:ea typeface="华文楷体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定义：骨性关节炎（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osteoarthritis, OA )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是一种常见的、缓慢发展的慢性退行性关节炎，又称为骨性关节病、增生性关节炎、退行性关节病等，是关节软骨退行性变和继发性骨质增生而导致的一种慢性、不对称的非炎症性疾病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468000" y="1341000"/>
            <a:ext cx="8351640" cy="475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X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线表现：脊柱竹节样变为本病特征性表现之一。早期骶髂关节最易受累，呈现骶髂关节炎改变；中期胸、腰椎呈方形变；晚期由于椎体间的纤维环，前、后纵韧带发生骨化，而形成典型的竹节样脊柱，导致骨性融合，椎体骨质疏松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CT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检查：可早期发现骶髂关节轻微的变化，适于本病的早期诊断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4"/>
          <p:cNvSpPr/>
          <p:nvPr/>
        </p:nvSpPr>
        <p:spPr>
          <a:xfrm>
            <a:off x="684360" y="1557360"/>
            <a:ext cx="381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3" name="Picture 6" descr="896_22~1"/>
          <p:cNvPicPr/>
          <p:nvPr/>
        </p:nvPicPr>
        <p:blipFill>
          <a:blip r:embed="rId1"/>
          <a:stretch/>
        </p:blipFill>
        <p:spPr>
          <a:xfrm>
            <a:off x="252360" y="1554120"/>
            <a:ext cx="4680000" cy="432108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7"/>
          <p:cNvSpPr/>
          <p:nvPr/>
        </p:nvSpPr>
        <p:spPr>
          <a:xfrm>
            <a:off x="1619280" y="5084640"/>
            <a:ext cx="25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         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骶髂关节炎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5" name="Picture 9" descr="U_6003~1"/>
          <p:cNvPicPr/>
          <p:nvPr/>
        </p:nvPicPr>
        <p:blipFill>
          <a:blip r:embed="rId2"/>
          <a:stretch/>
        </p:blipFill>
        <p:spPr>
          <a:xfrm>
            <a:off x="5256360" y="1482840"/>
            <a:ext cx="3384360" cy="439236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10"/>
          <p:cNvSpPr/>
          <p:nvPr/>
        </p:nvSpPr>
        <p:spPr>
          <a:xfrm>
            <a:off x="5867280" y="529128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   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竹节样改变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395280" y="1557000"/>
            <a:ext cx="813744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一）主要功能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 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疼痛：缓慢出现疼痛，开始时为两侧骶髂关节、腰臀和髋部疼痛及活动受限，腰骶部僵硬感，阴天、活动劳累后加重，休息或遇热后减轻。晨起时脊柱僵硬，起床活动后可略有缓解。逐渐变为持续性，并波及胸椎和颈椎，可出现一侧或双侧坐骨神经痛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Box 1"/>
          <p:cNvSpPr/>
          <p:nvPr/>
        </p:nvSpPr>
        <p:spPr>
          <a:xfrm>
            <a:off x="539640" y="1413000"/>
            <a:ext cx="806472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ahoma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046ca6"/>
                </a:solidFill>
                <a:latin typeface="Tahoma"/>
                <a:ea typeface="宋体"/>
              </a:rPr>
              <a:t>2. 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宋体"/>
              </a:rPr>
              <a:t>脊柱活动受限：早期晨起时脊柱僵硬感，活动后逐渐缓解；病至后期出现腰、胸、颈椎活动受限，驼背畸形，髋、膝、踝关节畸形强直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ahoma"/>
                <a:ea typeface="宋体"/>
              </a:rPr>
              <a:t>        </a:t>
            </a:r>
            <a:r>
              <a:rPr b="1" lang="en-US" sz="2400" spc="-1" strike="noStrike">
                <a:solidFill>
                  <a:srgbClr val="046ca6"/>
                </a:solidFill>
                <a:latin typeface="Tahoma"/>
                <a:ea typeface="宋体"/>
              </a:rPr>
              <a:t>3. 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宋体"/>
              </a:rPr>
              <a:t>心肺功能下降：</a:t>
            </a:r>
            <a:r>
              <a:rPr b="1" lang="en-US" sz="2400" spc="-1" strike="noStrike">
                <a:solidFill>
                  <a:srgbClr val="046ca6"/>
                </a:solidFill>
                <a:latin typeface="Tahoma"/>
                <a:ea typeface="宋体"/>
              </a:rPr>
              <a:t>AS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宋体"/>
              </a:rPr>
              <a:t>可出现关节外表现，如复发性虹膜炎，心脏、肺部病变等，尤其是病至晚期心肺受累，再加之胸廓的变化，导致心肺功能下降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9" name="Picture 5" descr="U_3626~1"/>
          <p:cNvPicPr/>
          <p:nvPr/>
        </p:nvPicPr>
        <p:blipFill>
          <a:blip r:embed="rId1"/>
          <a:stretch/>
        </p:blipFill>
        <p:spPr>
          <a:xfrm>
            <a:off x="2843280" y="4221000"/>
            <a:ext cx="3209760" cy="2095560"/>
          </a:xfrm>
          <a:prstGeom prst="rect">
            <a:avLst/>
          </a:prstGeom>
          <a:ln w="0">
            <a:noFill/>
          </a:ln>
        </p:spPr>
      </p:pic>
      <p:sp>
        <p:nvSpPr>
          <p:cNvPr id="150" name="AutoShape 7"/>
          <p:cNvSpPr/>
          <p:nvPr/>
        </p:nvSpPr>
        <p:spPr>
          <a:xfrm>
            <a:off x="3059280" y="5516640"/>
            <a:ext cx="1800000" cy="976320"/>
          </a:xfrm>
          <a:prstGeom prst="upArrow">
            <a:avLst>
              <a:gd name="adj1" fmla="val 68611"/>
              <a:gd name="adj2" fmla="val 26019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68000" y="981000"/>
            <a:ext cx="806436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二）评定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发病期和炎症活动期的分析：疼痛加重，并可出现发热、疲劳、食欲下降等全身症状。关节外表现：出现虹膜炎、红细胞沉降率加快。病变程度主要靠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X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线检查，早期为双侧骶髂关节侵蚀，晚期椎突关节消失，椎旁韧带钙化呈竹节样改变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脊柱关节活动度的评定：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Schober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法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心肺功能的评测；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.ADL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评定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971640" y="1773000"/>
            <a:ext cx="7345440" cy="31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三）康复护理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康复护理目标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控制炎症，缓解症状。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防止脊柱、髋关节僵直畸形，保持关节处于最佳功能位置。 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避免治疗所致副作用的发生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900000" y="1197000"/>
            <a:ext cx="746784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早期或疾病活动期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休息与制动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药物的应用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物理疗法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运动疗法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晚期或症状缓解期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注意坐卧姿势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运动疗法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ADL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训练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心理护理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手术治疗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68360" y="1989000"/>
            <a:ext cx="813600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四）康复教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加强早期诊断、治疗的观念，以减少治疗的难度和复杂性，降低致残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了解病程和预后，认识治疗的意义及长期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了解药物的作用和副作用及其处理办法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认识正确的行为和医疗体育的重要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66560" y="1483920"/>
            <a:ext cx="878544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疼痛：劳累后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痛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过度活动后或负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时疼痛加剧，如上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楼时或下蹲起立时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休息后疼痛减轻。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6" name="Picture 4" descr="0%6W3%1LVD$QJJ}JPCRYN)O"/>
          <p:cNvPicPr/>
          <p:nvPr/>
        </p:nvPicPr>
        <p:blipFill>
          <a:blip r:embed="rId1"/>
          <a:stretch/>
        </p:blipFill>
        <p:spPr>
          <a:xfrm>
            <a:off x="5076720" y="3645000"/>
            <a:ext cx="3241800" cy="2592360"/>
          </a:xfrm>
          <a:prstGeom prst="rect">
            <a:avLst/>
          </a:prstGeom>
          <a:ln w="0">
            <a:noFill/>
          </a:ln>
        </p:spPr>
      </p:pic>
      <p:sp>
        <p:nvSpPr>
          <p:cNvPr id="117" name="TextBox 1"/>
          <p:cNvSpPr/>
          <p:nvPr/>
        </p:nvSpPr>
        <p:spPr>
          <a:xfrm>
            <a:off x="2484360" y="260280"/>
            <a:ext cx="648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一）主要功能障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Box 2"/>
          <p:cNvSpPr/>
          <p:nvPr/>
        </p:nvSpPr>
        <p:spPr>
          <a:xfrm>
            <a:off x="684360" y="1413000"/>
            <a:ext cx="763272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buClr>
                <a:srgbClr val="ffc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僵硬：发病初期，晨起时或久坐起立时出现髋、膝部僵硬、活动不便与酸痛不适，持续约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5min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，活动后好转。晚期症状加重，间歇期变短，僵硬时间延长，可为持续性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ffc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功能障碍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: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随着患者病情的进展及活动量的减少，出现受累关节周围肌肉的失用性萎缩、关节畸形，最终导致功能障碍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4"/>
          <p:cNvSpPr/>
          <p:nvPr/>
        </p:nvSpPr>
        <p:spPr>
          <a:xfrm>
            <a:off x="1042920" y="2349360"/>
            <a:ext cx="6842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0" name="Picture 6" descr="990882~1"/>
          <p:cNvPicPr/>
          <p:nvPr/>
        </p:nvPicPr>
        <p:blipFill>
          <a:blip r:embed="rId1"/>
          <a:stretch/>
        </p:blipFill>
        <p:spPr>
          <a:xfrm>
            <a:off x="1042920" y="671400"/>
            <a:ext cx="6480360" cy="554508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8"/>
          <p:cNvSpPr/>
          <p:nvPr/>
        </p:nvSpPr>
        <p:spPr>
          <a:xfrm>
            <a:off x="2340000" y="5661000"/>
            <a:ext cx="496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TextBox 1"/>
          <p:cNvSpPr/>
          <p:nvPr/>
        </p:nvSpPr>
        <p:spPr>
          <a:xfrm>
            <a:off x="1258920" y="5016600"/>
            <a:ext cx="6049800" cy="1191240"/>
          </a:xfrm>
          <a:prstGeom prst="rect">
            <a:avLst/>
          </a:prstGeom>
          <a:solidFill>
            <a:srgbClr val="d0e9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膝关节骨性关节炎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3"/>
          <p:cNvSpPr/>
          <p:nvPr/>
        </p:nvSpPr>
        <p:spPr>
          <a:xfrm>
            <a:off x="324000" y="981000"/>
            <a:ext cx="842472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二）评定方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疼痛程度的评估：根据疼痛发生的持续时间、严重程度、缓解方式、服用止痛药类别和药量来评估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肌力测定：徒手肌力检查法，等速肌力测试仪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. ROM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评定：出现关节活动障碍及关节畸形时测定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ROM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. ADL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的评估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971640" y="1628280"/>
            <a:ext cx="7416720" cy="33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三）治疗护理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治疗目标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消炎消肿，缓解疼痛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1896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减轻关节负荷，保持关节和肢体活动功能。             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1896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增强肌肉力量，预防与治疗肌软弱和肌萎缩 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1896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增加关节稳定性，防止关节畸形和疼痛复发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394920" y="1125000"/>
            <a:ext cx="8209080" cy="516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      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发作期康复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休息与制动：出现关节肿胀、疼痛加重时需减少活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药物的选用：阿司匹林、非甾体抗炎药物、透明质酸钠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物理治疗；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热疗法、低中频电疗法、高频电疗法等。水疗（热水浴、矿泉水浴、药物浴）、药物离子导入、直流电、磁疗等均可选用，也可以用针灸、按摩治疗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牵引治疗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539640" y="1773000"/>
            <a:ext cx="806472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运动疗法：开始时以主动运动为主；随着病情好转，由主动运动逐渐过渡到辅助运动，最后进行抗阻运动。肌力训练：采用肌肉等长收缩练习，待疼痛缓解或解除固定后 ，应行等张肌力练习，直至抗阻练习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活动量的指征：活动后无任何不适，可稍增加活动量；活动后有短暂的轻度疼痛，说明可耐受。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Guest2</cp:lastModifiedBy>
  <cp:lastPrinted>1899-12-30T00:00:00Z</cp:lastPrinted>
  <dcterms:modified xsi:type="dcterms:W3CDTF">2015-12-17T01:36:34Z</dcterms:modified>
  <cp:revision>42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